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58173"/>
        <c:axId val="47262596"/>
      </c:barChart>
      <c:catAx>
        <c:axId val="88158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62596"/>
        <c:crosses val="autoZero"/>
        <c:auto val="1"/>
        <c:lblAlgn val="ctr"/>
        <c:lblOffset val="100"/>
        <c:noMultiLvlLbl val="0"/>
      </c:catAx>
      <c:valAx>
        <c:axId val="47262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58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FD4-381E-4233-B1EB-CE087CCD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9B2-C1C6-4BA0-9DB6-578D598F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200-4B50-4780-8A95-553D701C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BBE-0957-40B0-BEE0-F4176877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4CF-FCFC-4980-8392-DFE107F8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F47-D3C3-4A3C-8A8F-53516725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672-FCF6-4D03-BD55-CEE9CBD5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763-68FA-455E-BBB8-598CF41E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DE1-A614-4A6D-B460-749B43DC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AE9-C3A3-44B7-A5AC-5A869A2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2FA-BCA4-4F62-B1C1-5C4D35C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C9F-829E-4724-9149-9DF630D3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8B72F-5903-46B5-B8F6-3BCE01B99F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