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45599"/>
        <c:axId val="90279848"/>
      </c:barChart>
      <c:catAx>
        <c:axId val="95145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79848"/>
        <c:crosses val="autoZero"/>
        <c:auto val="1"/>
        <c:lblAlgn val="ctr"/>
        <c:lblOffset val="100"/>
        <c:noMultiLvlLbl val="0"/>
      </c:catAx>
      <c:valAx>
        <c:axId val="90279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45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BE5-DF1A-49A8-BFE1-A2F5A858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40A-6073-4EAB-93B8-9DE938C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FA3-3DED-42EC-BBFB-189AA40B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887-D0A4-4F58-9559-CEF3C551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734-10D3-4061-82F1-ADB877F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662-9D0F-458A-B5C1-BDEA2529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6CB-ED7C-48EF-BD1C-889D5AC7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167-1E4A-4ED5-A919-B981C9F7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D13-2C3B-4586-962F-08A862E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117-F26F-42A2-BECC-60A406E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82A-FFE2-4C66-808B-C5B63C9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A62-06F7-49E2-B8FC-43832D2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60AE0-ECA3-41AA-8967-D962DD80D8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