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67629"/>
        <c:axId val="75284222"/>
      </c:barChart>
      <c:catAx>
        <c:axId val="86667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4222"/>
        <c:crosses val="autoZero"/>
        <c:auto val="1"/>
        <c:lblAlgn val="ctr"/>
        <c:lblOffset val="100"/>
        <c:noMultiLvlLbl val="0"/>
      </c:catAx>
      <c:valAx>
        <c:axId val="75284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67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295-7A56-4A61-8474-BEEC254F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8BE-58D1-459D-B674-A0736ED4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290-8666-42E1-BC1A-D30DA726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07F-F847-4EF1-B8E4-4309C932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838-3509-4728-A713-BB029074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069-A61F-4C38-B76E-F3250EC0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043-11F8-433F-8AF1-B1CFDBD1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DC3-54EB-4D57-AB47-A99004B0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7F6-DCEF-4004-9A0B-46D44D76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D2C-6C54-4FBC-A3EF-B5BC81F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F88-2FA9-40C2-85CE-8A6FA6D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8F6-0CF0-49D9-8333-E69FDFF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3077E-7AF6-4D37-B0EF-E86CC59757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