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1724"/>
        <c:axId val="6635986"/>
      </c:barChart>
      <c:catAx>
        <c:axId val="9701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5986"/>
        <c:crosses val="autoZero"/>
        <c:auto val="1"/>
        <c:lblAlgn val="ctr"/>
        <c:lblOffset val="100"/>
        <c:noMultiLvlLbl val="0"/>
      </c:catAx>
      <c:valAx>
        <c:axId val="6635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1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14B-A1F5-4DA3-9413-1171B2FC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6CF-61CE-4ADF-BECB-704D5F47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CC6-3571-493D-A60A-ABAEAD6D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7B4-50B2-40F7-830D-FD782334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D32-0B0B-4B86-B299-9164422D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DF5-138F-49AA-B485-06A6F1ED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F2A-0810-4EBE-B794-30BFA325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7B2-8FEF-4ABD-A6F8-DAB1FF32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31F-E9E3-4372-AEB4-719978A3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7A6-A700-4E1D-8EDD-C7566E12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6AD-1F7D-4A9E-AF63-A3E5FC3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139-3977-4EFD-8128-2F5EAC8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E14EC-7908-4255-B7A2-134BC80FC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