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76043"/>
        <c:axId val="96613039"/>
      </c:barChart>
      <c:catAx>
        <c:axId val="26176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13039"/>
        <c:crosses val="autoZero"/>
        <c:auto val="1"/>
        <c:lblAlgn val="ctr"/>
        <c:lblOffset val="100"/>
        <c:noMultiLvlLbl val="0"/>
      </c:catAx>
      <c:valAx>
        <c:axId val="96613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76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DDF-093F-4633-B303-B21988A4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24A-B2EB-4CB6-BB80-BDC7E253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37F-1421-4A9A-A6D8-3669F918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C72-70D9-40CB-9AE1-4F08FA5E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F01-0C5B-4DDA-B7B5-823D564A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B4E-EBB5-42CD-ACF5-B9DF4ED5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CCF-4233-4DF8-9AFA-24414F22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C1A-573A-42E4-97E3-5A1CC034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751-4B37-4D0B-8F1F-9A4DFB28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24C-B893-4432-AB24-BBF6F54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0A7-A43D-433E-9EAE-31B699E0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46D-9B8F-47C2-88E6-A570EB3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74535-C1AF-4750-AAA3-F314A0176B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