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8566"/>
        <c:axId val="14037994"/>
      </c:barChart>
      <c:catAx>
        <c:axId val="56085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37994"/>
        <c:crosses val="autoZero"/>
        <c:auto val="1"/>
        <c:lblAlgn val="ctr"/>
        <c:lblOffset val="100"/>
        <c:noMultiLvlLbl val="0"/>
      </c:catAx>
      <c:valAx>
        <c:axId val="140379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85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02B-80F8-4F0C-A25F-2BB7CF92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172-C5EE-4EE2-8A63-327FD729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F74-82FB-4EB9-886C-30F0B822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B9DE-A20D-44CC-B9C8-09C7E73C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D002-F558-4461-B6D5-118982F7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5A2-C211-49A6-8517-4D96CCA7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BBAA-1E1E-45B9-AC4F-68115523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4B23-E3D9-46A3-A13B-9450BA98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42B-EE67-47BA-B1B2-B121BF46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3A6-DF63-4DE8-B199-14F576F2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5FE4-61CD-4F06-B657-D2EB2637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D7AD-A1C2-4971-9F85-5BCACBFE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5409E-C45C-4B62-904E-511C421CE5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