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80695"/>
        <c:axId val="37028194"/>
      </c:barChart>
      <c:catAx>
        <c:axId val="74180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28194"/>
        <c:crosses val="autoZero"/>
        <c:auto val="1"/>
        <c:lblAlgn val="ctr"/>
        <c:lblOffset val="100"/>
        <c:noMultiLvlLbl val="0"/>
      </c:catAx>
      <c:valAx>
        <c:axId val="37028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0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B47-9111-4216-9EB8-72D7F201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602-0224-4EAD-AC4C-8EB266B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7D2-7460-42E2-86B7-2D08C22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CB8-CBA1-4586-8D5D-AA9FFE4B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494-D409-4D88-8E98-EC25414D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8AE-442A-4700-8C8C-8F29F34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789-6F48-40C6-958B-C54BD31D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1AC-C621-446F-90FE-849E148C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4B3-6C1E-4D17-85B9-AA65CED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2A5-86A7-40DC-878B-955C268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17A-C97E-44F2-8581-B655289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850-3226-4479-9C5C-CFA9A22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9EDA-B89A-406D-B126-CD9D4DFFA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