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C97BAD-DD35-4AF1-8E0C-C7C38303DE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F8AA8A-614A-4132-B628-188326F24C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39DABE-39CE-4865-BBD7-8A52F4322D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3B0731-2888-4456-A418-41119E26EA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4A2162-E710-4C61-A72A-D012E86EBF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203AEB-EF04-4513-85D5-C249CBC8B9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37E719-4C47-4E05-88AE-8A233CFBE1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A7BF1A-731E-4A90-8480-BB8245F04B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976A32-B34E-452C-AD84-2D68D579C4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FD6E77-E664-4A56-AA03-19FFC8F866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23819D-F232-40A3-BFF9-F6D92A07AB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73DA87-0108-46E5-B764-BA0A8FA5D4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8CD5B4-5460-4470-A1C6-86B099F850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AC2540-9F8B-4EA8-9577-D5187D3CCA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49A326-9088-4859-8FF9-BD16178429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091F4C-3C32-42EA-BED7-F173378263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7B663B-3C08-4D73-BA72-D144AF38D9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197E0A-FD11-4E7E-86C3-952D6DC23E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6BFE0A-6C19-4938-BCC6-0014E009B8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5CAC0E-0217-4B72-9FCB-C27AE15950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A175B9-1E59-4955-B133-9E3205C7FC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49FC03-A807-45E6-A933-FC703BE99D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7D6CC8-2775-47F1-8F42-9412532A31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D1F6DC-04D3-4EA3-87CF-176331C93A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9110E-5C8E-424A-8D1D-C6059F5D6AF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C7C7F-0E55-4598-88A7-BAE56281851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5567F96-30B3-4473-8799-9ADB294AA5B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452FD83-C0CC-4DD5-B86B-FFD973BA76E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2FB942-7910-477E-8FCA-16EB5DC4DC5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2D4B56-37AC-42B0-ADBE-FF002966FAB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EF975D-D276-4B45-B101-C725E44AD98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F488DE-7CA3-417F-8628-89502590EB6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1A34E8-8AC8-44DD-88A2-2CF96CB8D43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123867-D6BF-43D6-979C-0E9A9C82737A}"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48FA7F-9AF6-4145-ADFB-3E564E8C20EE}"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E45E30-70BB-461A-A831-CD75D58420AB}"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92496D-1A93-4F07-A53D-0D10A3CB0577}"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31B6A2-29C8-4F6A-8570-55AA090A80DD}"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30CBD5-5026-4840-AD51-81A563D76B15}"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7A4651-50BE-4F78-A8D4-89B9D82E924E}"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BB78F5-7604-4788-A651-5FF7BB3D10B9}"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8A9A44-5ECE-4E1D-AF0B-597C87404E6E}"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D04F01-2105-4658-8F76-99BC9DA126E8}"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1D7057-C7B9-466B-BC49-80780538A5CC}"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FBD412-560E-453B-8990-A48F3F8CBCD0}"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4451F3-BACC-45F1-AD1F-22623EA67791}"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A96B1D-0556-4297-8A35-DEF1D8828E84}"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42E934-41F7-4F97-A324-2C36058B58DE}"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F37C54-9330-4DCC-B165-D568C0E4E5C3}"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E764DB-322A-4213-9A7F-A68E8A62FACA}"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911ED6-F987-40CC-B726-EC6BA423C562}"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E87BBE-0BD8-4C76-B073-DA32A25F266D}"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3FA1E1-0D99-4DE1-B6B5-C982CCBB2BEC}"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02C0952-4C03-4017-AD3B-FBE7A0FC25F7}"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A3B8DF-2C81-4F16-A720-6E829FA0FF3E}"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1E97D1-73BE-4382-A4DC-76905DB1DB0A}"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42CFEE-A2D4-422F-AC05-0CB147D1A8E1}"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063E16-C8FE-4FA5-8E93-5555BA1DD315}"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0D2D8B-0BFD-4D8C-9A38-A1A878045E3A}"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12174E-5B56-4328-B9E7-43EED0A92D66}"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F35C6E-8FCF-4A27-8D9C-AC41FC884F19}"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D86338-0088-4D6F-BC2E-95BBD0CE5C70}"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A8E32C-A6E0-49F8-80F7-164B258B5237}"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78AF3F-32AB-4798-8A04-19A199E49B08}"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BCE7A9-BD12-4807-84CD-F7E23D8C3A4B}"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FE5AC9-FE0B-49A1-826F-544CF9DCB49E}"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9BEDA3-E603-49A8-876D-EF1FFF590F32}"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541881-FBA7-40E9-B558-CF6BC0C4E8C1}"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4E3216-83D1-4F7D-8161-32B6B21FF14E}"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93A996-1EEB-485D-841C-2B8D4AF0E5BC}"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A431B8-DCFD-4256-9996-E71A7651DCCB}"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753FE0-228B-439A-9023-598993431157}"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53CB57-0838-4250-A849-7679FF9DF2C4}"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C1E870-FA1E-4D8D-85B7-9C8F652D18D1}"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B52C3A5-2BF9-4CA0-8142-1AABD42A5707}"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2E4270-B7E7-412A-9B0D-AC99C0F5B990}"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729DCC-3B93-4CFF-9D6B-CAE0EC6D76B3}"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CC12B03-C8BE-4ED6-A1B2-C0F3DBC8DFFB}"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6F33AD-074A-402B-B7C0-5F0CE44713AE}"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F4ABF5-7E3B-48AD-9BD8-728EE800485E}"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E5E1BC-5DC8-48E8-B0DE-2C6625EC9EBF}"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27D1A3-1EC0-439A-925F-8A74A06AC728}"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8C5AC5-FDB2-42E4-8321-233CC4C68A95}"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991695-ABF7-4004-82EC-1832AC793281}"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94DAE3-ED06-4808-BC38-BFE493CDCEAE}"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803B2C2-22D2-423F-B33F-CFBA6EFEA4B2}"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71319D-2E0A-4EEF-8323-6DAF02016F1D}"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BA7A03-9B7E-4AC4-974D-EFD94EC9CD29}"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8B4F34-BF2C-49C7-BD3E-3CA2FF16D105}"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739B99-7BF7-40E5-8EEA-25285F2A24B9}"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3E8409-4E95-4786-8E73-27DC74F86AAD}"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9FAE153-D334-4D38-8271-A26773632CC3}"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E82FF3-F63E-41D8-A40C-BA3D4C8A1A40}"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2A9538-AE87-4E39-8A29-CA6776150030}"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BB68A1-DEED-4501-87E7-B5486F801424}"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EE3807-0564-4322-8FB5-FC2FBC6EFDD3}"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E0265CC-91F7-4CA5-A866-E7CE519E568D}"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C252D2-47B7-4058-88DF-A0DB04D21226}"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619662-32B1-4380-9A38-3AF06C47CFBD}"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360E36-4D08-4EA8-8124-AA6922A1667C}"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A5AA6C-E666-47E2-89E1-F6CE71D1DCAA}"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68BFC3-55E7-4B15-AA9B-0F5330EBFBFD}"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C3C579-A288-4D99-BB0A-F3282481233B}"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D7A4899-AB4E-471B-B2BC-24ACB283ACB4}"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8ED4A0-16AA-4767-9252-256E96B2B147}"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38F638-9CBB-4441-A9DE-A0D04CF2404E}"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B78BC3-C937-4A48-9453-2CA92D5514B1}"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8AA6F6F-1781-4BEB-B921-99B5A7FE8FEF}"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95EC2E-70EE-4AD2-A66E-A382C3C970EA}"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4384F6B-639D-41C2-9234-E5A4E94C51B8}"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9B37C4-A6C5-4975-BA9C-6CD1FF61EFBD}"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B15294-152C-4274-90FC-B71F5E0B6755}"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D3C30E-3F6C-4979-990F-F96311D53CC7}"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38FE90-6E2E-463E-8CD8-844DBEDC045E}"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D99EDD-0947-4C8B-B96A-21D521D2D16F}"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C40D67-44D3-47AB-A499-DE701BF657DC}"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BBC7E0-4411-4F5D-A8D6-A31CD18DF569}"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EBEE3F-A1A1-4D30-8C71-7EB71A6FE9CF}"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C1694C-AF16-482C-A18D-E902AD882F5A}"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A699F0-7BEA-46F7-BB72-A59C235D0B92}"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605BD4-E9B9-462F-BBE3-5DA8873DE7D8}"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151511-E1A9-4BD1-8F8F-4AF0F9193D97}"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5D711E-ADAF-40BD-AF6D-7009FA9CF024}"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0BE706-F70C-4917-8AAF-8FAF3EBCE6B8}"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4E0495-E0E1-48FD-A194-BE4A596D2455}"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E41A05B-7E8A-461C-B073-F6388B8F4910}"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101C58-E441-4AC2-B33B-A8E5DBFB6E3A}"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3B2080-ABFA-485B-A4BB-449C79C76E67}"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3A56D6-4D8E-437F-B9AA-873CD13D73EF}"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12F738-184B-4EA5-9A8F-1A2D99D671AB}"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6CE915-AAE2-4CDA-A85E-6C174B9EE6A3}"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097FD5-36B6-48AF-A742-241945702DA0}"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AEB7E0-F2C7-40C5-9635-5462B298CE3F}"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6CD0D0-E639-4DF5-9EDF-F57024FE7F46}"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903860-3A89-4FC4-8865-41AF7DFCBB6C}"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89A3AA-601E-47B0-ACC4-1DA712BDEFC6}"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19B05E-8B95-4C7E-A537-A772EBAA5D32}"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CE0442-C97E-480F-8FAF-F302A275D94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C1F739-58A5-4D91-987F-525797B7F7F2}"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D50C46-B082-4C00-8785-9D6CD1F27C00}"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E95D43-B528-4EBF-9512-7AD6349435FA}"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F87BD9-FBC3-4908-BCA8-1D1FAFD875E6}"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DC81AF-7528-4132-8D72-F2F94B36F425}"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41F093-8146-4902-BE39-DFE30F914D4C}"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7C227F-41B9-4237-B6AE-56CDEC7A53C1}"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E35ACB-99D2-4248-B542-C859AFA44AB8}"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FBD6F4-E37F-410B-8A2F-CD89C19A9169}"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72C78C-3D1D-4DE8-A073-71B4D30C2550}"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901D79-16C5-4814-BADD-D93E7E650D7A}"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31DAAC-FCB4-4057-863C-E27ABE9BAB96}"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67C7BD-9A24-4441-923F-048A44016B41}"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D08650-91B9-4A4E-A57A-D013ECDD750A}"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F93F28-CF60-4753-8ACD-7C786D4B2551}"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A5D9BC1-C862-4330-A115-9739D20841E5}"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4AC011-2533-4793-A51C-ED0E41909ED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711A1B-0151-43EA-BD13-DE33581F765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5E1FE5-AE6F-4D45-B4F2-9BA916240DE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064E45-8013-4A5F-8B18-B1FBCDA3EB6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42FD8C-4DFD-4B56-900F-FEFC353EED3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538ADA-5BA1-4D45-AB13-6B99C756EF8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BDAA736-11BA-435E-B635-6B9F165015F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80C08A-94D7-435D-88A4-3C5E421C2DD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2FE8D7-A4FE-4DBE-9C75-CF3588D6CE1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759D78-A447-400B-94CF-C09E638C7A9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D6AEC8-A7D3-40E0-8139-BD50BC2E7B8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7DE392-2B95-4CDC-B174-424B27314AA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71D99B-A999-4007-A2C1-4089D743DE9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30A406-8307-4720-9D60-538254BBAB0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AFB822-23DA-4B3E-AAB6-6F22B7FBE68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99DB1A-D5F3-486C-AC91-C6A55DD457F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6F5C51-8974-4A48-A068-6EDC88CC9FC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C15430-94CE-491D-B3B3-445D849801C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C84FDC-4714-455F-ADF3-6DF93812FA5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17380D-147A-423F-A569-C918A97F42D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D4C96B-0623-45BB-90EA-F29F586FE3A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22FC0A-D0DD-4219-A8BB-F352C55E4CD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4521E6-2DED-4A0F-AB91-B8DA835455F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CBE6F9-4B7D-4F84-B628-FAC3AD2C78F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52D555-75C3-4872-83C1-06BE6B42EFE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7653DC-0F37-4BF0-AA5D-DE2CB6A19A5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245108-AB24-4840-9AFB-D5642063864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3A1BEE-415B-4AF6-BD4A-BB812E3CBAE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B67AA1-BCC0-4451-8185-28428872301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FD3273-4F5B-40FB-85A5-DF52BDC3834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D69283-6502-48A4-BCAE-F667E89092F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FA0CAB-7F0B-454E-AB2E-00C88EF884E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B8DC89-34F7-4D6E-85CB-569D4EA22E7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ACAFCB-256E-40BA-901F-4677993D2E0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6C3331-BE86-478D-9B00-943C1F1AD76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5A7D11-F498-4908-B00E-089DD338F3A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2C70A8-1A16-4A52-AC84-00C98E04CC9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5ACD4E-E10A-4B0B-9B1B-8F5C7A2DC71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D25D20-30B0-45D0-AFD3-1B4C9136759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77A797-9BB4-4443-8944-E1EB32E90C5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37F991-54BD-4DCE-A5E2-19C17355103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A9E8CD-9A60-43CA-8898-1094940C0C0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B733EF-3DA5-4547-8CE7-6D2A070DACE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EECAC2-FAA9-416B-A128-1875BB1F4E5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579296-3662-4B6E-81FD-B52A9458E2B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0A733E-454E-41B2-8B80-F0428931FDE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B78F75-6CE0-4072-A67C-F7F122631AB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9421993-DF9D-4FFD-A455-4CC960C4233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DC7129-9106-4969-B946-C1B551EE900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846DBB-12EA-487F-B3FA-CBE4CC7F32E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02D1C6-581C-416B-9609-988C1998553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2CD299-43BB-4A39-8CBF-42E0511BE7C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1BFDC9-8625-4A98-A4CF-653F037F55C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4144B0-6D79-4DB6-8837-D9E2D6540F0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0CFD4D-051D-494A-9E7C-2E19693660B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7D000E-E397-4AB6-AC72-039860F5C39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BB8E2A6-BC7D-4D2D-968C-EFFE686D59B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544AA3-8956-4FA5-9A40-E664366AA2A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20ED03-5B8F-420D-86BC-D3AD90740D0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52E7D5-7018-4531-B20C-5F20972EE65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B603DA-ECBD-4783-8001-A60578F3947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E9C801-908D-4C55-9AB1-9577D75CCF3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D3DE87-50A8-4A3D-AACF-1DB28810B29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2B625A-C335-40B3-A523-2DFBE0D4AD6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137EA3-AE2C-4E2E-9951-4B266611686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091EE3-C1B4-4201-9BE4-8FCDBFEDC12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59DE4A-7580-47F4-94CB-AC1B60EFE38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E4D0B9-2BB8-419A-9D32-8B3FEC6B07D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A97031-D50F-4DED-94E5-D26B8A25229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49445C-B331-4FAE-8735-270187D60CA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D8AB73-E34B-4D78-BFAF-7C235755303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4156406-94D8-4EEB-B631-539923B76BF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62E900-6B2D-4BC1-8BB2-35022524C35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14D6BB-3BF6-4581-9934-8FCAD8D66D3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D8384C-863E-4F24-B483-83065C9149A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6104F3-5108-43B1-9315-7CB2942FAA2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C21120-3A61-4212-A77F-B3C8A6FF8BE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3FD3CA-A32D-42DE-B26E-508B5079208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528FD6-5C84-4F15-8E82-B8A8DB72564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166E26-F266-4FA7-964B-E2BD6C3679E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14A880-6628-4D35-AB36-91C00CE0D60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3A371F-F357-40C0-8D5F-CF8BC34830F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284F68-4532-42C0-A5B5-D6D92588EA8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65DD79-83B6-4D8B-A92F-5D3A416BA96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82B87F-6A88-4DCD-8CD6-074E69154AD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