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4B9584-E82A-4255-8B83-CDBF18A324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A596CE-DC69-400D-9581-5B6C1417B5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02CE78-A2E8-4DC4-8F5F-5D0C301E5C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A4EE08-7575-4B5D-BD57-6176A99158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B1172FB-8A37-48FE-8D96-55A18197A7F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02BC3F-4F17-4701-9852-E52A602FC7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9FD8AF-5E77-453B-B93F-331E2743FF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616710-B680-4EAD-BD3E-B2316D4A02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EF464E-0329-44E1-9F93-081BDDAE31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85081D-9824-4619-87B3-6BD0300042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05E043-60B5-43EA-AB00-661DB56E98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F29A01-DF62-4205-BE61-843C86BDE2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F17E88-E63A-4B47-8498-5B08E87C90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8A4CCF-6CBE-42DC-A757-B09D3D1389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2B66EC-0453-4CE2-88F3-FB897C946F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CECE85A-6BAD-4568-BD50-0FCE5335DB0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BC8DD44-C473-40E5-8521-FDE289792CF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05FB60-2569-4555-BB44-21FABBFE6F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68B2D0-191E-444F-B15B-2187A19792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B97170-7098-4EA5-B801-F38B85B224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0631AC-3117-447E-B8F8-4196D9FA22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3BB14A-B1A5-4CC9-9B01-A684F087F9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3939A2-75F3-4236-A111-CAD369F2E1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248FD7-945F-434D-94B6-769A123E20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7DADDA-8CD0-43D8-9DCF-590FD07F9BB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28B0DC-6302-45B5-8CC3-BD1A7DCC229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6C4CDE8-F354-48E6-8212-2C70A862131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893DD3B-C901-4F09-9209-9ABCFF25EF8D}"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79C2E8-FCBA-4461-946D-EBD878F5B93A}"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651AE3-40EB-4DB5-A41F-D1C9D09055EF}"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72FF9A-F6BB-4491-959C-06E1A5C36B74}"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CF0479-7CE6-4883-BBBD-F66FB104A1F8}"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078146-707E-490E-8F60-99DB0B65593E}"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41CEE0-9777-4A71-8922-46096F75BF23}"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B24563-B62B-4B52-824F-E082C60A3316}"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B7A7F3-B6E9-4B5C-8125-451299C933DD}"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28FB3E-5D7D-436A-8325-DF7821650468}"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E0CF31-341F-40B5-9E6A-5A865A6A4FFC}"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15334F-DA97-473E-B3F4-8BE95456D0B5}"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1CCB2E-A5EB-4402-B62C-A67E82A7AB5B}"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064223-0811-4297-8E96-50DA91EC0505}"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BFC623-287B-4D0C-8DD6-194D3A28BE5F}"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F94521-1FA5-4350-8C07-25CF06644084}"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EC7A03-4E28-43D2-808C-069291EAF97B}"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EC2423-884F-4C63-9EE0-7E7C51CA4821}"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47656E-B773-443A-B3DF-FE73BB40B09A}"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30F2F9-388A-4B26-88A1-7847C1897EEB}"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71147C-3FA4-48E1-8239-41F936C5E27D}"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1D39A6-6712-4B4E-BC5E-D50EC5B29B8B}"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2467B5-1BDE-43AF-8CAB-4F42208D2BA3}"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188757-3ED6-4B14-ACC6-4E50179BD6FA}"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DABC45-6D16-4EA5-B626-1CC0732663AB}"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1008FA-2C8F-47FA-9A15-D145F89ADFA0}"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7CAA666-3734-4CF7-BD7E-2170CE94825A}"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8CF2EE-373B-4CE9-B19F-EB9A1A0652D3}"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C74403-13FB-42B4-8CE5-C3CF5F25451B}"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750325-A26E-45C1-9278-5F95A0883AD8}"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FDB835-F083-4778-A00E-F4D19C41164B}"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EC1FD0-64EE-4D9A-A1CD-3C793BB68C41}"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A180C4-95D6-4D85-81CA-162D2509A7EA}"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3112EE-8B18-420A-BF10-BC9A545E402B}"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3C5B43-0CCD-45F4-A444-E162FD5358C7}"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5944D6-9F10-445B-93DD-415E9D43B68A}"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C56E04-D3AD-41E9-88AE-69C3DD7EB93D}"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BE285A-9E28-4F45-83EE-A5FD144ECC9A}"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87B76F-CBE2-485B-8631-E05FE52AFEA7}"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E5C1AF-48E6-425C-AADA-79F41E9E9766}"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854D0E-D83F-40A1-B6BB-9CE3E73C94A2}"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8CBA8F-ADAE-4603-9E01-47950ED882CA}"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FAC0A7-4982-4069-BFAA-06B03B8FF347}"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2260C4-8069-4765-98A4-E4C45AA90961}"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5B7396-6B53-4E39-825F-FD11E2B5C7DD}"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DD2936-F412-4DF2-83F7-32CC2B208B6E}"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4021A7-70A8-40F9-94E6-BF6DC2D22462}"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3E101BD-C762-4624-BC66-A494592B8C6F}"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8A5660-C2B9-4D31-B81D-57B4ACC1DBBB}"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8751C7-2A5F-4F83-8D42-B0E0A65E8758}"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EAEBBE9-9F93-4131-ABDC-4920285619EF}"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EC1EEE-8248-414D-BBEB-69473728810B}"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DB9013-F96B-476E-BBE6-C64D4FE9E4DA}"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0F4509-9B59-4ABC-B96C-52F85BF8C303}"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44203B-4A3E-4D6C-A29D-EE281E7FB226}"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E19C20-9E4F-45EE-A3F0-EEB7DCCB24D0}"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2F7564-5A26-483F-A22E-A7B32E0C0510}"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0B0F09-05E3-4828-95A9-89A0680D434C}"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64D375E-3606-4BBE-9F31-E41D01BCF053}"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928CB4-A120-4450-A9AE-4206AD5952C4}"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E7A31E-2DC4-4E99-8487-753B9D493DB7}"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23F1A8-2E69-4B68-8DE1-730D800F4BBE}"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53597E-563C-4E05-904E-A8CAC48D406E}"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794380-9B6C-4AB1-B8B6-8C3EBEEA55D5}"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6E9EB21-1D7D-49BA-B6D0-2283C851D4A2}"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3DCE48-247F-4165-91CC-8DE88A29C01C}"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363A0D-8D80-4F2F-BBB4-57C2F59ABD82}"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148705-52B3-4D23-8682-7134504F8775}"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1E145F-C5C4-4C52-BDC1-466AF246BBBB}"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818B20B-A850-4D63-B1D8-CB7BCA06760F}"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5D21F9-8D84-455C-AFEF-556D436AC9F2}"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611E81-CC13-4545-B8D1-10BD600D0E58}"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2CC851-7DAA-496A-A019-6016EA21B387}"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E853D8-A191-43DF-A933-C9FAB54DE84B}"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ACF64B-F59A-4F55-AC0E-164B484F5904}"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AA2544-D4AE-449E-872F-BE47E710BE8F}"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4BE3627-D39E-4C35-BBAD-CB58B9B5A8E6}"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DD8057-A3FE-47DB-AD72-F37BF05B1AD2}"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1545BD-8F68-4B33-B7CE-26D0666802CB}"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354BA9-68EB-48E2-B1C4-EBC469826000}"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378137F-1D73-4C1C-B7A7-3F38E58BE96A}"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1B6478-CD65-4F07-8237-476E6C947AF2}"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8D15C93-B41D-4DD2-A660-19173A2CFDE9}"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97BFBB-FD2C-41E0-826A-5A979516EF4A}"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763EEF-247E-4DC4-BC60-99832D88711D}"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2C3731-9FE2-4EAB-886A-F25C2DD64E1E}"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C1A229-E206-44AC-9D32-021AEA8F7223}"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6209FD-00CB-44BD-86E6-BB1AF1C5D3F5}"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03CC3D-48F2-4FF6-92B0-C93400832DB9}"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B1EB48-068B-499F-BD64-AF2A7D6EC2A5}"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BA4361-2006-4908-A0F3-86C4EE2BD5DD}"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4090D9-630A-4E8A-AC99-BA231047DFB5}"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B4081D-CDAF-4C5C-88A4-BE253F959BA6}"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F39946-424F-4061-8E75-D33DE9567230}"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5ED2D1-6C78-47CF-B35F-7645BE297E3D}"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A0C312-AA69-4D4D-9C44-72D9243608BA}"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30F41E-17F8-41C5-83E8-D1AF620EABFF}"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24FF91-C115-44F2-9A40-57704C6B87AF}"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BBE228E-7E7C-4C30-84B0-D22F87A81F4C}"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DBA722-6B70-4978-A34A-AEF446691F3C}"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4F9F66-B908-49F7-A1E6-F2A03F6A5AA3}"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314CDC-F7F8-4737-9AD4-CDB726687C11}"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D74D76-7451-4AD3-866D-0B64FC1176E8}"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3D7BF6-E906-42E1-8974-EA33B1EFAF12}"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FA6ADA-0922-4EAA-8508-5B7CCADA1CAA}"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B52474-E35D-4833-92FC-18F0522D7A6F}"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856981-4AE3-4054-B4A7-7D0D2CCD7048}"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076B75-3C57-46F4-9537-40C40EACC910}"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49776D-5E23-4F25-BF57-24265A68B357}"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A5279B-4980-4F0D-9D05-557076788208}"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2EDFF4-FA48-4D26-8466-40021285170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E902E3-A798-4323-81C0-297C4007A175}"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684334-6274-4AB4-BDF0-C3AD41FBD606}"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12099B-42AC-42E8-B48F-277065A71D45}"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3DC0E9-C1EB-4357-A4EA-354089EC557A}"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394971-8FF7-45B9-9E2C-E69BEA42431B}"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8CE876-16D2-4D18-84EF-144E567606DB}"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D681E7-E335-49DD-B303-71EBB27E92A9}"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173E83-56AA-4FA0-806C-A2C5F2E33075}"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27A186-4730-4864-BCB5-5D9805892B69}"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75C144-B8CE-45E2-9B3D-E7215473CA2C}"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FCC42C-D0C5-48F5-A191-07EF01310D05}"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E1E636-881B-43EA-B1C9-179DAB6024E4}"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327C57-1AAE-4032-9835-69D349DD10B5}"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9C1274-4144-43E5-9E99-42C9F5E51D6E}"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477B14-E337-4E7C-A3CB-0F691DD8FA92}"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675D88B-EB38-4A66-9C86-720FFD7EF05B}"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846DAA-6A5B-4FBB-8CE7-7FEBA4CD531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674BBD-C287-4EA9-B27C-0BCED61F18E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D7A0C4-486E-4B16-81DC-CB1DDC865CC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79D335-0978-4102-80A9-70326CD93AB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8E332F-3958-4B6A-98BE-85F3C8B082A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0CDBBE-4E17-4A8C-A763-3ACC4BF37BA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1C9CFAA-9B8E-47EC-A877-2B3B793757B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27CE03-E4DE-4AFD-A4AE-B8032753161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99F19F-D2B9-4535-AE00-DFC8773B5C6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13839B-22C9-4FDA-BD03-D0BDDAFA242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B6DD38-3018-415F-9FDC-F41CBC8EACE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149462-8ACB-4094-8F70-788F226B2B2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041E2C-2332-4954-B79E-242FE77A25C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36D724-4FD9-4D29-BF1F-7DCEBA7E2C5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08B705-E255-4A93-8752-D03F1A35A52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477B86-9A52-4AED-967A-4299868A466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96CB44-FB8F-480B-A834-60006360F0B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028DC8-AC2A-4AAC-B32C-8C1CBC292A1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33137E-C66E-4ABC-8F9A-D6EBD7A83FE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09B17F-145A-4F1C-AAE3-2AB8119F3A2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FB2048-E08B-4CB7-A6C9-711A15BF826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B11123-03BD-44FE-B054-A1FC9673476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C22953-B791-40E3-BBE5-885E9A1D23E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3129D3-77F3-465D-9249-36777055860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A88749-4751-4C6D-B998-1B668D580F2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A46B04-3622-4A9F-868B-BBED934DE2C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B965EC-5992-44CB-A6C7-9EA0AEFFBC6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067D05-D283-4116-B249-62D6CD3F861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EDBCF5-D326-4E4E-8A55-1BE3890C897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BB049F-B8CD-4143-B515-A185766FCBB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9F365F-40F5-477B-B8DB-216C8F7A89A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E10F94-69CA-4307-AC2D-9ECE6AD17A5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7D8F83-E5CA-428C-95AD-E91097785D9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983564-6878-4D26-B6E7-DC332EAC921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596306-A380-46B4-9909-4F91D116CB0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D1BDB2-B35A-4F10-B933-230B5E55219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62DEDC-D3B6-4C27-8E40-8FAA471A2AA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C500E2-7947-4ACB-BCDD-45FB0DF4300C}"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F3B179-59E7-48DF-99E3-E41202C727C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E57028-8F5D-4F95-8D63-41C344FC86E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2247DB-0975-4864-ADD7-1759241DEE9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7A794C-B18A-434A-AAA5-648FAC11C67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4176E5-23E7-4B4E-9C2F-14795758BDA7}"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B0570C-44A3-4B94-A350-EF292174302D}"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10F3FE-7EA5-4A1D-857B-902CF7E7282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C33B6C-CA28-428C-992D-A1CA2ED1383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02D5D6-B8F5-4301-9C0B-05EF3F38217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78F404F-3AD0-4476-B7F0-D29ABACD44E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A930D5-EFAC-4D10-A46A-6C0D8782E366}"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E1F649-DDE2-4A40-ABF0-E8D530ADF48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0ABA34-617F-439B-BCE5-22616B0588EC}"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C14103-DEEF-49E4-8585-AEB5006F476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C9C7CC-BACD-4986-B53B-C228AD98FC93}"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9A1BC0-8098-4BB6-8D7F-EC250A3EADB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982CD4-985B-4155-A281-5592078BDA3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5D9718-5AE7-49F5-90A6-CCB0BD5A845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111BFE7-1623-424C-BBC7-23D467093699}"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4C2C41-CC8D-494D-9271-4B223A6CD6FD}"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3FE7D1-6AC1-4E06-B266-4EE6A99B6613}"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B3E494-ACA3-42F1-84A3-28CCB7FD0171}"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6FDED9-F5F0-4F74-98F1-1BCE2A9B7CCA}"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33A323-96CB-4CD5-9EBD-98564EB873EC}"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17FEC0-2693-4145-A60C-F173E7AF4716}"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7E11BF-DBEE-4BC9-A7F0-D45E5D106F50}"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DC6F5A-279B-4FC6-ADC1-2948251E27B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BA3542-CE08-44FD-8767-CFED0487234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5B6884-0408-43A9-BAC9-572D52A6552C}"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8B18A0-26B6-4548-BA54-DCB76A0988BA}"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937315-70F7-4D55-8710-DBF32C2BE0E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A3FBB9-C5C4-4A11-A62B-1A09F5B88AF9}"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055EAA-1B30-4D45-AF55-DB504FF9570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EB0BE31-EFAD-447B-9EAA-E9A1C177954C}"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084269-85FA-433E-9961-7D5E333FC4A4}"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512CD8-1905-4493-BCB2-6DE8CD47D7EF}"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2EDF77-6C24-4A31-9C60-157C17306272}"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D8662C-71D2-4182-AA08-BB989C41E022}"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0BAC4A-18BA-484A-8527-046E1F597B3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0DE2FA-2C2D-4060-9D1C-A854E67AC218}"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C84E3F-4B76-4A91-B2CD-40BD162316DC}"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0B2750-643E-4EA4-A8C4-FFDA683120B8}"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D25182-247F-455B-B035-2F8DC97734A4}"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7F9904-53A8-49C7-8D76-08EC510A1720}"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7639C8-ACFF-4C68-9E3B-6F728435C39C}"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316A3A-1620-44F4-B2E5-D094CA901C73}"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A6EFAF-5D83-4BB5-99A6-B7204948CBC0}"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