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F75358-1251-4845-B523-CA5CEF5ACB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52C7E1-114C-4091-B01E-8790CFB88A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3F1CC1-E702-460D-B3CF-BE8ED66EFE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997171-277F-4A57-8B95-2A0C9F06E7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A527AC9-10B4-4AFA-AF11-63E2B0ECD88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045862-28C6-404A-B88B-A02EA4F673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97212E-1C04-46F5-899A-232D7C91CA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2E7AA5-F8FC-4B92-A934-972A58591E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CEEA45-52AE-49DB-A728-390355CD0F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2438BA-B053-4DF4-BDB4-651DD197E2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AEC2C5-5D45-4E4B-9603-A9AC6132F0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074867-66F9-4FDF-A4BA-A5E076C64F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B6A72B-1DF5-4B02-BB56-C700AC4DB6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092791-D78B-4ADF-8FB8-A6A45675A6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DF60FE-DB26-4EF6-B565-65BABE9DFC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40EDFB0-45DA-49C5-9F23-B78CB3F737C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F901E60-F9FE-4FF2-9AF7-87810BC384F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E1F2BE-0E37-4338-807A-91B5D7FB92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B0D3B7-6C2D-4C78-87A3-38887AA09D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0E7948-5E39-4120-A1E1-BDC6BD73CD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DB3ECB-FBA3-408B-8885-67AF40BE2B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32863A-EE99-4B13-A6F4-37BB2007AB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844E96-6741-4131-BF7C-180C20E171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F88D78-3AB8-4330-AA0A-10016205FCE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A91696-6424-4A87-A013-B6A1A7A4FCD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C02F33-9CE7-41E7-9EFD-69D99507E31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0CF8FCF-B48D-4A4D-85C8-1DBACE47875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C93FC5F-508E-4F80-BFA7-5D0D9C02E6FB}"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A0A95D-25EA-4C43-88FE-E034542C447F}"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265A41-2FC2-48B2-8F51-FD2D3DD545C2}"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60DCA2-C3DC-4049-AD3B-432F7B507B83}"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9F2D2C-D190-4B19-8EBD-4A8580F689E5}"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58EE00-E050-42ED-9C3F-A1B68BD25EB7}"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31B638-F654-4EEF-9BC2-93B6571C7897}"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D39448-DE29-447B-8354-F425062A7CAC}"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962CE3-61F8-4D0F-9052-5FAAD96DC714}"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FD22A8-AB8E-4C03-A63F-603889D6D5C5}"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1827CC-D377-438E-97BC-F7950FF6067B}"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1BCE6C-FE20-4244-9CCA-7553CCA6FB0F}"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AA9573-86B6-442D-9A92-E5F5F5C0B25F}"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174331-3DEE-4D7F-A3FF-25C87ABBAFB6}"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D3DA55-CB93-4BA5-9E68-CE6F81F5EF48}"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79B62B-A906-4E98-A383-494765A2FDE8}"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EEBEFF-979C-42FF-8B5B-153A11EA2A03}"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3A395E-9DDB-4EDF-9F2E-C233E922C3EB}"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1B1FDC-AAFA-4281-AA23-516DFE0AE4C9}"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2D0AEE-D737-4056-B69E-7DC2AF986B63}"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208543-7040-4914-A7DC-4694B4790C42}"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79205D-2E2A-4470-8098-B694279785B1}"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2D92BB-BE09-4BA5-AE9E-2CF856EFE88F}"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07DBCA-DA86-4295-97D1-E25DD00BBD63}"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8D5EF8-8D9E-4425-BB9D-FCE3E99167C0}"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496A64-8A32-4475-B729-E51C214BE049}"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E34CE36-7C34-4DDE-8A2E-57253885DAC0}"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737071-E990-4E6D-913F-DF336DB2DA2E}"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8CA801-490B-4EA8-91DE-66BFDDCC20D2}"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33B22E-F23A-4874-99E3-D4B37D4EA2E8}"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C2D8C6-2B42-4C40-8C4C-0445D617BA21}"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766021-DF7B-47F4-8675-1660FD158C09}"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2ED103-537B-4511-9DBC-41CB817AF071}"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397E1E-AFD8-4205-8734-D37E9B2B68AF}"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407B0E-37EB-455D-9E2E-02F368D2B715}"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AF95AA-C326-4A7D-A343-382F75499F58}"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E2CE53-2C6D-4F13-8413-4418DB238BC8}"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02C21F-607A-4E20-A382-49C1980A2E18}"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D7BF6E-3CE7-49B0-B2CA-3149270CE6D6}"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4E01D3-7323-49CD-8B94-25EB2541165E}"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3BF73B-0884-438E-936F-4014616D2D8A}"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3F6839-7AD2-416D-BF29-CC0AB3ACFA8A}"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B862CF-D908-4D72-9135-A99B8FD9B9D1}"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EE44E0-33A1-4368-9329-A92CF6D93794}"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BE96A4-F85E-407D-9FE0-27FCC0E78339}"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58569E-5491-4138-8B4A-C6BF6D83452D}"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DB93E2-F986-4C77-99B5-43F0D0627B00}"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BF175D2-5949-47FA-8BF1-1B2F1301B1CF}"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6943B9-E67C-47AE-BC5D-13DB3B2AE928}"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E33B74-AA82-40F3-8E4C-E5FFB3F35F4F}"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339C66F-1A60-4CF7-A96E-3F8C09BE9833}"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E4789B-1225-4533-B5E3-C71C9FF0475B}"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691E77-F5E7-4B9E-A6C6-E7FCEEE89917}"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2ABAFA-A6EC-4DCD-8F1A-997D92DEA304}"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523002-B670-49C2-9897-9DDC6144F1DD}"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D92C4A-A2D3-462F-9D49-CE661A6C29A1}"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825583-5824-49B9-918E-D7FF6070F14B}"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01503C-9EC1-4E5B-A85F-B38DA7EA85D9}"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0266810-4CDC-48E6-BC3D-1D57EA4DF2C6}"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A9824D-0E8C-4672-BAE3-2377DA68B116}"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6F95CB-A349-47B4-8E53-4CDD2C5215C9}"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585791-79D0-4191-B110-E382257B48B5}"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440D62-59CE-40C0-BB66-ACE60AC1FD2C}"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B3F604-C672-482E-90A9-144011E4CF2A}"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211EF1D-2489-4476-9D1A-ECBC537B0CFD}"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2EA5FC-DF98-420D-A8EC-D599ED57C6C9}"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947153-6ECE-4771-96FA-B8765A738D84}"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72659E-B25A-416F-BA28-B723AA877FD0}"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878F44-2417-49CF-AA7C-BCCBFB118D0C}"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442D9EA-1139-4A88-BF13-09A60AD0C0E2}"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3C71BC-5C11-47DD-980D-D10CA91850B9}"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CEB795-23C9-4A60-B21E-D83B2DB6655E}"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6DF84A-B249-48D7-A69B-C79E3485C778}"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933470-64BB-4B9D-B0BE-5F01AF834F1C}"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41D65A-7539-437E-9A0F-01BDCF14235A}"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5C2394-0BA0-4AAB-85B3-85014384D345}"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009DFDF-F82C-4A8D-AE6B-984788E47314}"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28C201-0E8E-49CC-8B6C-A42233BEF66B}"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1F3651-3DB0-4F08-AE94-E2F0D0BFE72E}"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BF8193-FB4A-4398-BC6A-DCE1D1F3BA97}"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124A699-1052-4C70-B0E6-967F1B49A970}"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DBE9DB-82AC-462D-A611-DEFF984FB78F}"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6C7D47C-8202-4997-8792-30697959A78E}"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1A43C3-07FE-49CC-B1B9-56138331E42C}"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EBC28A-856A-4503-924A-5CA04447DCF9}"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A90CFF-DEF6-4790-BEF2-4D1B0C273B57}"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A53812-235D-49F2-B778-2EA70BD431BD}"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36665A-39F7-471C-B66D-D4C6B6D2B663}"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E3F08A-FD1A-45A3-9CD6-E8BE7ABA0B8B}"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C3C78E-931B-4B9F-A156-E721E8EF7DCE}"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145A98-7742-4997-AB57-41B3ABF55CD1}"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0B5E84-FE8F-48C8-A6D3-665A3DDB7E52}"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3FDB17-D5D5-427C-ADA7-02E95D0C57D5}"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A9B28C-CECB-4C05-94D4-497CD6EB0ED4}"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5BF32B-E7BB-4DA4-BF13-A84A3C642216}"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1CA5E5-0631-4E30-8328-1A738E499C1B}"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472764-079E-418F-AAEA-32289CEB8F82}"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4294FF-5F39-4EB5-B05C-70D3D371C851}"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D50D6D6-B386-4ED9-815D-8B34C0526064}"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47C014-ADB8-4018-AEBC-8E0112A46BC7}"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266F50-DD70-4659-9C20-B107A2627394}"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20F78A-57F9-41A3-AEB9-BB6A63C75FDA}"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C82C6A-31A7-4275-9F21-27EB2ACAB9F0}"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783F72-E3DF-431E-990E-D346ADBE48CF}"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BC35DD-FF9D-4221-9328-4FA62FEF1C55}"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14B08E-69A8-467E-B27F-2104181918D8}"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229AE3-2961-47F1-9170-6B8246028493}"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FC2362-F583-47E8-AA63-ACB9411D3C51}"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F6E983-182E-41CA-BD74-E990A8B9441B}"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D5DCC6-F65D-4CA4-ABFA-6B837A7047D1}"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E7272F-242A-4276-8B5D-830F78CC83A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8F9325-1519-40C8-A5A3-7AF969D484BC}"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59C1C7-3C15-491E-BEE1-9AACC5A3D954}"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F802E6-FC00-43DE-88F3-494EC591B289}"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0F9D96-EB59-423D-B185-FCFBED7D513A}"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7939A7-2573-4B91-9D6B-CCCA60D234E5}"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C91D89-48CB-4EA3-A1CE-5AF608B5FAA0}"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9745C9-058E-41A6-A62B-4A6393FB8AB0}"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A3B82A-66BF-4152-9549-221DCBEB8774}"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197F12-211C-45DA-ADD9-4424F464B583}"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1D41A8-3AAF-437E-9FD5-B8001B02FBF9}"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0413AD-C5E3-496A-804D-55C88AF069D3}"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6F1710-A922-4078-A2D0-BB12CCA63CA4}"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D00769-BEAC-4279-B2B5-CBC72802686E}"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621A50-0EAC-4F48-95E5-65A7B8982636}"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EDACF7-BCAC-4FF6-9A60-07AD6289FDAF}"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E9766DA-9604-44CB-8885-4D2B9C252DE6}"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F4728C-2535-4690-8E2C-301088BC395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DFF2C6-61F1-4086-A794-B15507B0625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A3A543-FAAA-4232-88A1-ADF4D0405B8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C8FF0A-90DE-4EF4-8882-E14AF024EBC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2BD372-0485-4704-BE5A-36AA2AE2F9C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B12CCD-15C9-4DE5-9A6D-C4B002BED8E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222B3E9-75F4-47F5-A643-9019F07DF66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BBBE97-2213-40A2-8C36-4B657945090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2C9BE5-077D-4836-9E58-29DC9BB33DA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EE0402-628F-437F-ACA3-1D07CDD901C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A0276A-070E-495B-B348-60EB2D0D089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323AE3-2C63-44D5-B6CD-7C4A9B95848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8DF224-26D7-45C3-8EC5-289CC9B79BD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4ABEC0-8021-4C29-831C-28A2F2724DE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1E33A5-FC04-4B7A-941A-F338DD01B1B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CE8C78-2F85-4C25-B0BD-BA7216BD3A1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B572DA-D5BD-4571-BACD-6C3681515FE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2F6326-FA71-40BE-9CA8-7CA724059BC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0C9505-C762-4A98-B425-7B8A3F18E2B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3B968A-57F2-455E-A4EC-DDDB90204FC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30E902-F424-4A45-B453-E1FCBA07CD9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3DB5CE-E957-4180-85BF-DC692C3300A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9EB558-B68C-4BB4-BD3F-29B4A028BA1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EEB3F3-1116-4396-8E6B-82BF8F5460F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DBFB2A-31D0-40DC-9D32-116379D058F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5FBB79-AA5D-459F-BF67-5C35D0FF4F9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CA479C-342C-47EB-89C2-05C5FA55907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516DE4-4787-43BF-8A09-82922E3B0CF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29CB3F-B2D1-43FC-9CCB-399FAE0ADE8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4D718E-7202-475C-B4FE-0FC6C7BFDCC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56302C-D233-44A9-8977-8A23CF6FC6E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B3907F-3AFD-4B22-9C48-E81684F5D46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CA02F8-3610-4D54-A913-56390C22CC3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5FD076-DDEE-4F0D-8564-814A73EF08C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47401B-EF99-4FC0-BECC-73DE5022899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00B7BF-43CD-4354-9203-97CC9CB0415D}"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0DCE18-8C4C-4039-9E00-93B99A6C554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0FA80A-9D17-4E4A-8D66-CD16A47FE79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AD43B9-3AB6-4F6C-A38E-528B1EB469F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E8AA4C-F234-45D0-9842-C9A1B9864CE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320E32-0F7E-433C-BD59-1C9B1A455E9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7B2675-4B90-4F30-BF0F-CB4AAF9D4358}"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4C6C8A-6B8E-4A7B-9691-D69BFC76CB5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38125E-3CEB-4F9E-AB8B-0F10D235E40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A8430C-58C8-4C53-BD5B-6AF1DDC4E6E3}"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BF950C-E5E9-448A-98A3-6E05AF393AE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25F134-3084-4BF8-B373-4724DBF7CF2E}"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7C5C716-2023-4A42-AC47-F31D259D2B4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298274-0E6F-4CEA-A82F-C3A05D89F50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FBA123-CEC1-4A47-98C1-A945D81935D3}"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1C4687-C6B5-4BD1-83C9-9D42E75A55C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BB3BB8-1563-4812-8E53-79AA1A9EEB7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D44EC0-5013-43BA-9F99-16A53BC3F5EC}"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D74C46-BC81-4E74-B39A-67F861C756C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8393A1-D87C-406E-B640-11DC3CEC1C2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FB531E-5C04-4927-9714-0397A652D90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BD6C0C9-F287-4C67-840D-DE398E1A6F3E}"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C404D7-1149-4CAB-AA02-044C57B8953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5172CF-62BC-4200-9E26-E9985C310C2C}"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C3E86D-2C84-4AD5-B036-CE18C7F4181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089DBD-CC07-46B3-AF9B-27D0468F931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F5D973-4180-4823-9361-D4222A01B46A}"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34C4A7-55DE-47D9-8B0E-21C1C948C51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651F0F-BC8A-49D6-8458-C4876F7DEEC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51DDEE-5363-4AF1-811E-0228C669BC3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33416F-963E-463F-A1C4-3B85A4222758}"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A112DA-5870-49A2-A849-0C00913EFEF3}"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B47AC7-1D5D-4564-8BB2-70B19F08B55D}"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880E91-3D37-49D3-AD14-37BBC9414DC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1542C0-F0E2-4D45-86C7-6C3B74ABA14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96A48A-A3E8-4F68-BB65-973F14B2C392}"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652933E-49E4-4605-A4CD-F3290601B1F0}"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B67456-D7A8-442E-91A7-80E11DF9F36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449726-CD5B-4E8C-83AE-B7B48C20EC33}"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A2F6B8-3412-4F49-BF1A-E9EC05F8308A}"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675B3C-EFAE-4D2E-97F0-1DD26148A6C3}"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60F6EF-4EEC-4F17-8ACA-61A59B0BE96E}"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2B4E6A-8620-4553-A5D5-8EF7CD66134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97621C-9FCC-4696-BD99-40712A5FBEEC}"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0BA77F-7773-486A-83F3-1FBB44A2599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9B70AE-D822-4081-9F28-FDF3B012EA03}"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E8726E-8627-4BB4-B0C7-3C4F4E9C5E8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459872-8B67-4DB9-B85B-880400715923}"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913AD4-2D9C-45C8-AF05-1527844B0785}"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B868DF-8666-4EC1-BB7C-E4A8CD65E9C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