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82630"/>
        <c:axId val="62074635"/>
      </c:barChart>
      <c:catAx>
        <c:axId val="42826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074635"/>
        <c:crosses val="autoZero"/>
        <c:auto val="1"/>
        <c:lblAlgn val="ctr"/>
        <c:lblOffset val="100"/>
        <c:noMultiLvlLbl val="0"/>
      </c:catAx>
      <c:valAx>
        <c:axId val="620746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826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8B39-26A5-4296-A8C7-93BF1BBC6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B054-A0A8-4746-BFBB-EA512AE4A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86E7-64B9-411F-B33B-AB1C082C7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7958A-BEF8-460B-9EAF-3D5CB981F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A26E-BC64-466A-9C25-D94062ED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F05C-16C2-4949-864B-52ECE42B8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05318-5228-4EF3-9C14-BF918693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8E0F-18B9-4540-B287-36B57A14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49F4-1834-4004-B2F2-77515816E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42C5-0248-40FC-A8EF-78A4F7AFF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0153-AFBD-4E3B-9F17-40E09B77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DA5C-BEA2-4449-9DCC-52DA6167D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8E777-77C2-401E-B6C9-E8FF63292E2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