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04294"/>
        <c:axId val="99201358"/>
      </c:barChart>
      <c:catAx>
        <c:axId val="10504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01358"/>
        <c:crosses val="autoZero"/>
        <c:auto val="1"/>
        <c:lblAlgn val="ctr"/>
        <c:lblOffset val="100"/>
        <c:noMultiLvlLbl val="0"/>
      </c:catAx>
      <c:valAx>
        <c:axId val="99201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04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804-7781-4413-A059-FC81521F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4D8-C6AA-4E8C-B7F9-D9F03C0A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22A-FB84-49E0-8F36-572F62A8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A40-E7CB-4E22-B688-D2ECA884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6E3-4549-40B5-97D9-ADB3ED50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010-FC00-465A-ADDE-F7B49FBD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4AC-217F-46DC-8FA1-D382676D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139-B562-42B1-BA21-6E32E776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953-396D-42BE-8FC3-740E2F28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BE8-8027-4D5F-8772-97D92E22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3C3-D879-40CD-AF3D-50B32465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B90-2739-4BBE-8650-62412414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07F8F-5B87-4CAA-BD9D-308AFD73A2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