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31712"/>
        <c:axId val="35788000"/>
      </c:barChart>
      <c:catAx>
        <c:axId val="48431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88000"/>
        <c:crosses val="autoZero"/>
        <c:auto val="1"/>
        <c:lblAlgn val="ctr"/>
        <c:lblOffset val="100"/>
        <c:noMultiLvlLbl val="0"/>
      </c:catAx>
      <c:valAx>
        <c:axId val="35788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31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56F-CADD-48CE-B457-01B857CB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898-B241-4E4C-9642-038781E4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333-0759-4871-A985-AFA2F821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136-7412-44BF-9473-0B30D249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74C-E422-4A96-98B3-82429F1F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3B1-5EF0-4EBE-B0D1-9FA9FF2D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A24-043D-4EF0-B396-4143D143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406-ADBA-4B4A-BC48-B55B7BC8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61D-968F-4001-BC37-C93AD33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169-8FBB-4A19-B07C-5BABAE9A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2B0-DE46-418F-A898-062B704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287-0F58-4736-A2EE-98B9154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38697-6E81-490D-AB04-695D4C0BD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