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02430"/>
        <c:axId val="82840670"/>
      </c:barChart>
      <c:catAx>
        <c:axId val="32602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40670"/>
        <c:crosses val="autoZero"/>
        <c:auto val="1"/>
        <c:lblAlgn val="ctr"/>
        <c:lblOffset val="100"/>
        <c:noMultiLvlLbl val="0"/>
      </c:catAx>
      <c:valAx>
        <c:axId val="82840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02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2C2-FDDE-4DB9-A3D0-58D469F9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725-FA26-4F4E-BD0C-8FBFFAF5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8A6-DDA0-462D-B6FD-406E9033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CF4-A924-4FF9-8FED-EE409D26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56C-BD95-42BA-98E8-7ADA3B95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648-CD25-458C-B139-BA5A2588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52D-5A85-4596-8822-EB4FD44A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1F7-C99E-4726-A4D1-01EED6A7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ECC7-6221-42AD-ACD0-5ED1A31C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796-4B1C-4059-B583-B8DE3ADF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A9F-232A-4039-A0B6-6A3F1877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BFA-30D2-4998-91EB-AD6C928A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65CCE-D2F1-4ED8-95F8-C61A152813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