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20871"/>
        <c:axId val="17866392"/>
      </c:barChart>
      <c:catAx>
        <c:axId val="698208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66392"/>
        <c:crosses val="autoZero"/>
        <c:auto val="1"/>
        <c:lblAlgn val="ctr"/>
        <c:lblOffset val="100"/>
        <c:noMultiLvlLbl val="0"/>
      </c:catAx>
      <c:valAx>
        <c:axId val="178663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208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624-CF96-4C57-89EE-3FC486D2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9055-87FE-470A-A74C-C7A8CEF6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0A6D-8F41-4DE9-B082-DD750508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6722-B1F6-45BD-8EF8-2BC5737A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C897-1CC3-444D-BF18-B617BBC6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373-5507-4CA5-83F2-110B07AE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516-1936-401A-B62C-F7505425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10C3-92C6-4BB8-9CCC-E149E1C9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750-C1C5-4FCA-9966-7CE50E39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B04-C849-4494-A4A6-03A856D6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7C4-ED02-4EDA-BAEB-1C32B9A4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D0E-120B-44D7-AF1C-711504E1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8A82F-C91A-46E9-AB13-A0A658D2E1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