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06835"/>
        <c:axId val="58274533"/>
      </c:barChart>
      <c:catAx>
        <c:axId val="96706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74533"/>
        <c:crosses val="autoZero"/>
        <c:auto val="1"/>
        <c:lblAlgn val="ctr"/>
        <c:lblOffset val="100"/>
        <c:noMultiLvlLbl val="0"/>
      </c:catAx>
      <c:valAx>
        <c:axId val="58274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06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4D4-CD23-4E3C-9FA5-E6F8A229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98F-EEA0-4F74-AD65-3DBAA56C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C36-1A6E-4D82-BA70-08E08C1E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5E8-AECA-4D14-8534-CE3441FA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E95-A4DE-4FD8-AB58-9AF4D2E7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400-7308-4EAE-9258-8EA32501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882-A4EB-4B09-AD24-9A279696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473-1917-4860-974B-52B83736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9F5-2121-4509-8FEC-EA251695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9A6-5C39-4EAD-82E2-E141FF6C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9DD-2366-4B37-913C-B60560D0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18F-B039-4DA5-80EA-C2748480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19531-A432-42EF-A085-0325F27129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