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6012"/>
        <c:axId val="20535763"/>
      </c:barChart>
      <c:catAx>
        <c:axId val="6886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35763"/>
        <c:crosses val="autoZero"/>
        <c:auto val="1"/>
        <c:lblAlgn val="ctr"/>
        <c:lblOffset val="100"/>
        <c:noMultiLvlLbl val="0"/>
      </c:catAx>
      <c:valAx>
        <c:axId val="20535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6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A3F-7DC4-4396-88CD-A6C281F9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A5A-B560-447E-9C64-BD396813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B56-5D54-467F-ABC9-B289373E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B24-46E8-4FC0-9252-D30A6108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8F1-1193-46AB-B60D-791EFF7F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461-4029-42AC-81B0-07E80617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47A-41C9-40A7-8FE4-31253496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3B3-3D66-4BCB-8C7B-96C3DF28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C49-384F-4993-8F60-E2AD7F67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EF4-95C9-4C03-B2E2-577D72BE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6C5-5747-48E1-B04A-06609DE3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2C1-E04E-4398-9497-6DEFE5A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F65E5-3F56-4EB6-9459-D55984EA6D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