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399904"/>
        <c:axId val="81935942"/>
      </c:barChart>
      <c:catAx>
        <c:axId val="313999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935942"/>
        <c:crosses val="autoZero"/>
        <c:auto val="1"/>
        <c:lblAlgn val="ctr"/>
        <c:lblOffset val="100"/>
        <c:noMultiLvlLbl val="0"/>
      </c:catAx>
      <c:valAx>
        <c:axId val="819359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999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B3B9-BE76-492D-859F-2F8B71DF7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0209-B495-47D3-B3A0-8C2792B1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CAC3-AF1F-4432-A81A-438B0AE2E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DFA1-27A3-4C7B-87CC-7CA3AFB32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8F7F-0517-4038-BAD4-8A8848FF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7B06-CE2D-4F28-80EE-9F842D2F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0DA6-0867-4B86-A9AE-92000AC8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6893-2329-474B-ACD3-FD1FA2E5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DF32-C1A7-4A1D-9E32-321CAFBD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A483-8381-4144-911B-3886EA3A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A05F-CAE7-4CED-98A8-30EE17A1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99FB-835C-4C8D-B6B0-CADAEC6F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6084B-2288-486F-8722-28B198A09C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