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50674"/>
        <c:axId val="76574983"/>
      </c:barChart>
      <c:catAx>
        <c:axId val="290506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74983"/>
        <c:crosses val="autoZero"/>
        <c:auto val="1"/>
        <c:lblAlgn val="ctr"/>
        <c:lblOffset val="100"/>
        <c:noMultiLvlLbl val="0"/>
      </c:catAx>
      <c:valAx>
        <c:axId val="76574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506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F60-3DD3-4F50-B4A1-1D791352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6874-B450-48BB-BA33-6DC51DB3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F113-4513-4A58-B207-8DC16238F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A4B-E1EC-4CFA-BB84-ABF0E1C8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D91A-F7DD-42C7-9D61-5B8B543C5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A10-3608-4C84-9666-5F157C09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8CF8-01A8-4632-96B9-8D67FBDC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9220-F392-4AFB-B9D5-F5232B3E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049-6530-43A7-9956-D8380418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44E-F917-4959-84D0-6C5D0B93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2AC-C26F-4AE7-9CE5-4FB4D3C6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A8D-0313-4453-B0BE-730B61BDF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992A4-42F5-4E39-93CE-E777B5E68C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