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026484"/>
        <c:axId val="93579672"/>
      </c:barChart>
      <c:catAx>
        <c:axId val="210264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9672"/>
        <c:crosses val="autoZero"/>
        <c:auto val="1"/>
        <c:lblAlgn val="ctr"/>
        <c:lblOffset val="100"/>
        <c:noMultiLvlLbl val="0"/>
      </c:catAx>
      <c:valAx>
        <c:axId val="93579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264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3B5-1FD1-4D27-974C-A47E4EC7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EB3-24E0-414C-BEB2-19A5650B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A6D-9406-4AB1-8D29-85C08336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BE2-3593-485E-8934-444FC8E8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B51-D384-497B-87E2-41E7C1D7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FE1-C49C-4004-84C7-4A65F5EB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73A-6FE6-457C-BAC2-6BDFD9BC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CF9-9B84-4AF8-B7F9-EA2CDC29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A274-B1CF-4EB0-89A6-95981FC2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A8C-8BE1-41A8-80B0-4910754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DD4-C3C8-482A-9C1E-0E6952C9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2F0-B0F2-4799-B1CF-55D58508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DDDF0-2279-42B9-B2D1-3246F5D999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