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4742"/>
        <c:axId val="56010451"/>
      </c:barChart>
      <c:catAx>
        <c:axId val="40314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10451"/>
        <c:crosses val="autoZero"/>
        <c:auto val="1"/>
        <c:lblAlgn val="ctr"/>
        <c:lblOffset val="100"/>
        <c:noMultiLvlLbl val="0"/>
      </c:catAx>
      <c:valAx>
        <c:axId val="56010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4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865-4709-4CB5-BAFC-37876895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417-D3CF-42C7-862B-0387303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DED-6732-40E5-8F48-ECC0088E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374-F26A-42B2-991B-FA4BFE7C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061-E54B-41B0-B056-2BE3336E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AF9-8FD6-404A-AB4F-117B48AA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302-1C14-491D-8800-EB015D93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E65-ACE9-4CA7-8135-531D6BB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418-5DB8-4CDA-84FD-505CCC55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261-F0E3-4C2B-9B80-5864BCB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6E6-3600-431A-8B15-4C65667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C52-D677-4642-9AB4-0AB9FB1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A2E58-37D7-4485-915A-F89ADB7E4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