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71537"/>
        <c:axId val="24050604"/>
      </c:barChart>
      <c:catAx>
        <c:axId val="959715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50604"/>
        <c:crosses val="autoZero"/>
        <c:auto val="1"/>
        <c:lblAlgn val="ctr"/>
        <c:lblOffset val="100"/>
        <c:noMultiLvlLbl val="0"/>
      </c:catAx>
      <c:valAx>
        <c:axId val="24050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715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B3B-872D-46E5-85B8-7410170D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B25-6EC2-4628-92C8-3F6C1690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4217-4804-4E7D-BF51-FC2DD49B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52DD-A4F2-4D4E-BD8D-2F07CAF6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179C-6549-48D3-87EC-B4A6BC0A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1D1-782F-4FD7-B8DD-4889ACC8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74E4-CDFC-457F-BEFF-C79A97A4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3D8A-0112-4A61-B81A-64DAAE71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DCE-6C11-4885-AD12-1952E85C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F00D-E209-42E2-994C-74A957FF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0B61-8B33-4DCF-AFF0-2D8281F8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4CD-8520-4B1B-878A-BDE01BE2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F8C28-DD63-407E-94D9-F7FBECEFA2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