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15771"/>
        <c:axId val="71509114"/>
      </c:barChart>
      <c:catAx>
        <c:axId val="83015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9114"/>
        <c:crosses val="autoZero"/>
        <c:auto val="1"/>
        <c:lblAlgn val="ctr"/>
        <c:lblOffset val="100"/>
        <c:noMultiLvlLbl val="0"/>
      </c:catAx>
      <c:valAx>
        <c:axId val="71509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15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6D1-68E8-43EC-A5B2-B2C5796D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8FD-98D0-40A2-9A63-8F3BC6F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192-4B99-49F9-8F68-6C6B5A72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452-312B-4F98-A4B4-1DB4277F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582-0DC5-47D9-8062-31336FF2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C2D-8D6F-44BF-8641-EE69EACB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4E1-7285-42CE-B3F1-26465367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F79-3BE1-4EB0-9B2D-09989A4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F8E-15BD-4D48-8B5B-E7DCF58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17E-1B40-4160-85A6-A1D88F3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49D-F0EF-4268-B388-7F741C9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0C1-9AC4-4054-8B63-0931534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A7802-3EAE-422E-B71A-22C3F724DD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