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147676"/>
        <c:axId val="33032018"/>
      </c:barChart>
      <c:catAx>
        <c:axId val="861476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32018"/>
        <c:crosses val="autoZero"/>
        <c:auto val="1"/>
        <c:lblAlgn val="ctr"/>
        <c:lblOffset val="100"/>
        <c:noMultiLvlLbl val="0"/>
      </c:catAx>
      <c:valAx>
        <c:axId val="330320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1476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1400-AD23-4E8D-A692-B82B8429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93CD-7D0F-4138-941C-BFE2D418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08C2-E30C-4711-AFFA-9BC85A878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5512-0E06-41DB-A6AA-1932A6B22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E67E-7158-4946-881F-5802567F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486D-C810-498E-A368-C95638E2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024F-4E8B-4932-BC0F-38DF0174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4C68-6173-487E-B689-B904CFE9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E455-6E59-4919-9CC6-690DDD3C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D420-7BDF-4365-BE1A-7816A06F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503B-9D65-486C-9DF9-867F1637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0B59-2258-401B-9E25-BA9F5D8F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D5F91-EBAF-46B0-B2CE-858A78871D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