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41158"/>
        <c:axId val="69935409"/>
      </c:barChart>
      <c:catAx>
        <c:axId val="17441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5409"/>
        <c:crosses val="autoZero"/>
        <c:auto val="1"/>
        <c:lblAlgn val="ctr"/>
        <c:lblOffset val="100"/>
        <c:noMultiLvlLbl val="0"/>
      </c:catAx>
      <c:valAx>
        <c:axId val="69935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41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F5F-6DED-4195-AD12-8E0B6FE7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111-F283-47AB-BBEA-D89438AD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8BA-EB75-4AA7-B54B-359C4425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85F-A777-4AF3-B8AC-BF4BF1DE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7D3-B48F-4804-BBCD-41092EDD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4EB-0455-4B86-B08B-FEB8C5E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815-BF51-41D6-86A2-2DFA3D11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885-9815-4E95-BAB2-ECE519E4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7EA-249D-4A9F-8FEE-0EC82219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BD3-4251-44D4-97F8-E4C9C41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EAE-84C8-4FBF-A238-E29302C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CF2-D7EF-4129-BA6D-D1EE65A5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AF85D-9C3E-45C6-BDC5-74E192AD1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