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483765"/>
        <c:axId val="98555650"/>
      </c:barChart>
      <c:catAx>
        <c:axId val="65483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55650"/>
        <c:crosses val="autoZero"/>
        <c:auto val="1"/>
        <c:lblAlgn val="ctr"/>
        <c:lblOffset val="100"/>
        <c:noMultiLvlLbl val="0"/>
      </c:catAx>
      <c:valAx>
        <c:axId val="98555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83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F8A-010C-4658-8DDB-2820D6D1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BA4-6F13-4267-A1E6-DA5DBCDD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E3D-2C50-4227-994B-58A7E584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E12-5A8D-4527-8A3C-3F93C858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6FA-50CA-4DD1-AECA-7A313F79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195-6AFE-4C4A-A9B4-751B18DF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710-5EAC-4B18-9DBF-E7527986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050-90B6-4B62-9E5A-8BE1B4A0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2ED-AAA3-4928-839F-34190E0D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636-3BB4-4446-ABE3-ACD757E0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DAD2-F54D-47BB-894F-4515C64C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3AE-D166-40CC-A329-2076DC46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640AF-9F2C-4F46-BCA9-B886A77C82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