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58260"/>
        <c:axId val="19946243"/>
      </c:barChart>
      <c:catAx>
        <c:axId val="32558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46243"/>
        <c:crosses val="autoZero"/>
        <c:auto val="1"/>
        <c:lblAlgn val="ctr"/>
        <c:lblOffset val="100"/>
        <c:noMultiLvlLbl val="0"/>
      </c:catAx>
      <c:valAx>
        <c:axId val="199462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58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430E-310F-4062-B6E0-25F84BDE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3F0E-F0DE-4C85-B12E-9191CE71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AE8-0839-4F74-B1B6-9C49E1CA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FF65-E93F-4442-824A-67EDF1B5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EB4F-6848-4295-9268-DFF1E04C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FD4-A756-40C0-984D-C8C6CCB7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D7F-7916-4018-8DE4-B15F352D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ACC-55DB-4865-B221-214BF7C2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437-0F8C-4F50-94BB-8D09DDA8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0D79-BC51-472D-A4E7-A12A8CEA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F4A-B7F8-4D2E-BA73-8EE13539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361-B086-4798-8102-FE1DD37D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AD823-09A5-4CD8-B334-BDB07233BD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